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80B-3B7C-41AF-8668-EFF2EDD1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563-87D9-425C-9B1B-372FC607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59B5-185B-48DB-A5A9-EE63C613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0DE-A5D7-4E4D-8FDE-023FB1FD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BBB-B039-454F-BBC0-CE452CC4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5FD-D804-4EB4-84A8-B2FC30E0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577-8CC4-411E-B983-545D3B5D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D4DC-215B-4EB8-8A09-7F1D360E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F0E-EB4B-4872-8CCB-C1C334C7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1AC-E971-46C5-B662-B2991E23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F21-58E2-4175-B918-41178F2D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A8F-C1A7-4373-8480-B5FC9332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E7DB-CAC9-4FC3-98A5-C47BD3DED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981080"/>
            <a:ext cx="83822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lynomial Functions an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5200" y="914400"/>
            <a:ext cx="8848800" cy="628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2571840" cy="504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34120" y="2171880"/>
            <a:ext cx="1962000" cy="49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133640" y="3124080"/>
            <a:ext cx="2295360" cy="704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257800" y="3200400"/>
            <a:ext cx="174312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219320" y="4343400"/>
            <a:ext cx="1657080" cy="514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410080" y="4400640"/>
            <a:ext cx="3133800" cy="399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76320" y="914400"/>
            <a:ext cx="6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152280"/>
            <a:ext cx="8763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examples and graphs of 4 different power functions, illustrating the 4 typical types of end behavio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492200"/>
            <a:ext cx="3429000" cy="507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14922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3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25480" y="2349360"/>
                <a:ext cx="4051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ph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52280" y="22543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124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3 different polynomials of degree 3 whose zeros are -4, -2, and 3.  You may leave all your answers in factored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31687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411480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914400" y="5626080"/>
                <a:ext cx="60069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raph: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38080" y="4336920"/>
                <a:ext cx="67057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at are the zeros and their multiplicities for 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52280" y="553068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22:04:13Z</dcterms:created>
  <dc:creator>Harry S. Mills</dc:creator>
  <dc:description/>
  <dc:language>en-US</dc:language>
  <cp:lastModifiedBy>Harry S. Mills</cp:lastModifiedBy>
  <dcterms:modified xsi:type="dcterms:W3CDTF">2008-01-01T01:49:59Z</dcterms:modified>
  <cp:revision>10</cp:revision>
  <dc:subject/>
  <dc:title>Slide 1</dc:title>
</cp:coreProperties>
</file>